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93300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63600" y="595080"/>
            <a:ext cx="83930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9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520" y="393300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9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60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2680" y="18032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52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60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2680" y="393300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3600" y="595080"/>
            <a:ext cx="83930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93300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8032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93300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734840" indent="-318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2313000" y="450540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38fa"/>
              </a:solidFill>
              <a:latin typeface="Arial"/>
            </a:endParaRPr>
          </a:p>
        </p:txBody>
      </p:sp>
      <p:pic>
        <p:nvPicPr>
          <p:cNvPr id="3" name="Object 5" descr=""/>
          <p:cNvPicPr/>
          <p:nvPr/>
        </p:nvPicPr>
        <p:blipFill>
          <a:blip r:embed="rId10"/>
          <a:stretch/>
        </p:blipFill>
        <p:spPr>
          <a:xfrm>
            <a:off x="0" y="0"/>
            <a:ext cx="83808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3600" y="595080"/>
            <a:ext cx="8393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80324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734840" indent="-318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71080" indent="-334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4d00"/>
                </a:solidFill>
                <a:latin typeface="Arial"/>
              </a:rPr>
              <a:t>实验四  </a:t>
            </a:r>
            <a:r>
              <a:rPr b="1" lang="en-US" sz="3600" spc="-1" strike="noStrike">
                <a:solidFill>
                  <a:srgbClr val="7f4d00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7f4d00"/>
                </a:solidFill>
                <a:latin typeface="Arial"/>
              </a:rPr>
              <a:t>文件目录</a:t>
            </a:r>
            <a:endParaRPr b="1" lang="en-US" sz="3600" spc="-1" strike="noStrike">
              <a:solidFill>
                <a:srgbClr val="4138fa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84280" y="2158920"/>
            <a:ext cx="777240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一、实验目的</a:t>
            </a:r>
            <a:endParaRPr b="1" lang="en-US" sz="3200" spc="-1" strike="noStrike">
              <a:solidFill>
                <a:srgbClr val="4138fa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了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系统与目录操作；  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了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系统目录结构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掌握文件和目录的程序设计方法。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41360" y="1488960"/>
            <a:ext cx="848988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s -l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看到如下信息：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r-xr-x 3 killercat killercat 4096 2007-01-11 16:27 Desktop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------  8 killercat killercat 4096 2007-01-09 14:33 Documents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r-xr-x 2 killercat killercat 4096 2006-11-30 19:27 Downloads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------  4 killercat killercat 4096 2006-12-16 20:20 References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------  9 killercat killercat 4096 2007-01-11 13:34 Software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r-xr-x 3 killercat killercat 4096 2006-12-11 16:39 vmware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drwx------  6 killercat killercat 4096 2007-01-11 13:34 Workspace</a:t>
            </a:r>
            <a:endParaRPr b="1" lang="en-US" sz="18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84280" y="957240"/>
            <a:ext cx="77724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二、实验内容</a:t>
            </a:r>
            <a:endParaRPr b="1" lang="en-US" sz="3200" spc="-1" strike="noStrike">
              <a:solidFill>
                <a:srgbClr val="4138fa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程实现目录查询功能：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3" marL="1943280" indent="-5716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95000"/>
              <a:buFont typeface="宋体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类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s -l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3" marL="1943280" indent="-5716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95000"/>
              <a:buFont typeface="宋体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查询指定目录下的文件及子目录信息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显示文件的类型、大小、时间等信息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3" marL="1943280" indent="-5716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95000"/>
              <a:buFont typeface="宋体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递归显示子目录中的所有文件信息。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546120"/>
            <a:ext cx="8566200" cy="56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三、预备知识</a:t>
            </a:r>
            <a:endParaRPr b="1" lang="en-US" sz="32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nu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文件属性接口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unistd.h&gt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ys/stat.h&gt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ys/types.h&gt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nt fstat(int fildes,struct stat *buf)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返回文件描述符相关的文件的状态信息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nt stat(const char *path, struct stat *buf)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文件名获取文件信息，并保存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bu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所指的结构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t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nt lstat(const char *path, struct stat *buf)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 lvl="1" marL="1028880" indent="-5716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读取到了符号连接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st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取符号连接本身的状态信息，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t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取的是符号连接指向文件的信息</a:t>
            </a:r>
            <a:r>
              <a:rPr b="0" lang="zh-CN" sz="2400" spc="-1" strike="noStrike">
                <a:solidFill>
                  <a:srgbClr val="4138fa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8760" y="906480"/>
            <a:ext cx="87613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struct stat {</a:t>
            </a:r>
            <a:endParaRPr b="1" lang="en-US" sz="16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dev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所属的设备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ino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相关的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inode </a:t>
            </a:r>
            <a:endParaRPr b="1" lang="en-US" sz="16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short st_mod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的权限信息和类型信息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: </a:t>
            </a:r>
            <a:br>
              <a:rPr sz="1600"/>
            </a:b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S_IFDIR, S_IFBLK, S_IFIFO, S_IFL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short st_nlink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硬连接的数目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short st_uid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所有者的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I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short st_gid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所有者的组</a:t>
            </a:r>
            <a:r>
              <a:rPr b="0" lang="en-US" sz="1600" spc="-1" strike="noStrike">
                <a:solidFill>
                  <a:srgbClr val="4138fa"/>
                </a:solidFill>
                <a:latin typeface="宋体"/>
              </a:rPr>
              <a:t>I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rdev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设备类型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siz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大小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blksiz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块大小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blocks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块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atim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最后访问时间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atime_nse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mtim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最后修改内容的时间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mtime_nse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ctime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// </a:t>
            </a:r>
            <a:r>
              <a:rPr b="0" lang="zh-CN" sz="1600" spc="-1" strike="noStrike">
                <a:solidFill>
                  <a:srgbClr val="4138fa"/>
                </a:solidFill>
                <a:latin typeface="宋体"/>
              </a:rPr>
              <a:t>文件最后修改属性的时间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st_ctime_nsec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__unused4;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unsigned long  __unused5;</a:t>
            </a:r>
            <a:endParaRPr b="1" lang="en-US" sz="1600" spc="-1" strike="noStrike">
              <a:solidFill>
                <a:srgbClr val="4138f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1" lang="en-US" sz="1600" spc="-1" strike="noStrike">
              <a:solidFill>
                <a:srgbClr val="4138fa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792000" y="5952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t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体几乎保存了所有的文件状态信息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26"/>
          <p:cNvSpPr/>
          <p:nvPr/>
        </p:nvSpPr>
        <p:spPr>
          <a:xfrm>
            <a:off x="457200" y="731880"/>
            <a:ext cx="79246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inux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目录结构接口</a:t>
            </a:r>
            <a:endParaRPr b="1" lang="en-US" sz="3200" spc="-1" strike="noStrike">
              <a:solidFill>
                <a:srgbClr val="4138f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#include &lt;sys/types.h&gt;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#include &lt;dirent.h&gt; 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#include &lt;unistd.h&gt; 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 algn="just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endir(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R *opendir(const char *name);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路径打开一个目录，返回一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构体指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录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失败返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addir(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ruct dirent *readdir(DIR *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lvl="1" marL="457200" indent="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取目录中的下一个目录项，没有目录项可以读取时，返回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26"/>
          <p:cNvSpPr/>
          <p:nvPr/>
        </p:nvSpPr>
        <p:spPr>
          <a:xfrm>
            <a:off x="533520" y="762120"/>
            <a:ext cx="784836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项结构：</a:t>
            </a:r>
            <a:endParaRPr b="1" lang="en-US" sz="32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dirent { 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      #ifndef __USE_FILE_OFFSET64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ino_t  d_ino; /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索引节点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off_t  d_off; /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目录文件中的偏移 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else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ino64_t  d_ino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off64_t   d_off;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  short   int   d_reclent;     /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的长度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  char   d_type;     //d_nam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指的文件类型 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  d_name[256];     /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名 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1" lang="en-US" sz="2000" spc="-1" strike="noStrike">
              <a:solidFill>
                <a:srgbClr val="4138f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注：需跳过两个目录项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和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.”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定义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usr/include/dirent.h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34800" y="853920"/>
            <a:ext cx="855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04920" algn="just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dir(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nt chdir(const char *path);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改变目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用户通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命令改变目录一样，程序也可以通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di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改变目录，这样使得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pen(),opendir()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需要路径的系统调用，可以使用相对于当前目录的相对路径打开文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indent="304920" algn="just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osedir(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nt closedir(DIR*)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关闭目录流</a:t>
            </a:r>
            <a:endParaRPr b="1" lang="en-US" sz="2400" spc="-1" strike="noStrike">
              <a:solidFill>
                <a:srgbClr val="4138f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760" y="457200"/>
            <a:ext cx="7772400" cy="61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四、程序结构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unistd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ys/stat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tdio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tring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stdlib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#include &lt;dirent.h&gt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void printdir(char *dir, int depth){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DIR *dp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struct dirent *entry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struct stat statbuf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if  ((dp =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di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目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成功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{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打印出错信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di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设置为当前目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3600" y="644040"/>
            <a:ext cx="835524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while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到一个目录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{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以该目录项的名字为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lsta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得到该目录项的相关信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if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目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{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if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目录项的名字是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..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或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.”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跳过该目录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打印目录项的深度、目录名等信息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递归调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printdir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打印子目录的信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depth+4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　打印文件的深度、文件名等信息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返回父目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关闭目录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;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int main(…){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………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50:27Z</dcterms:created>
  <dc:creator>!leaf</dc:creator>
  <dc:description/>
  <dc:language>en-US</dc:language>
  <cp:lastModifiedBy>Administrator</cp:lastModifiedBy>
  <cp:lastPrinted>1899-12-30T00:00:00Z</cp:lastPrinted>
  <dcterms:modified xsi:type="dcterms:W3CDTF">2016-11-07T01:19:21Z</dcterms:modified>
  <cp:revision>695</cp:revision>
  <dc:subject/>
  <dc:title>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57</vt:lpwstr>
  </property>
</Properties>
</file>